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384200" y="685440"/>
            <a:ext cx="408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2646-CB69-4FE0-A8A0-04684044D2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4C4B-1B0F-4B73-BD15-8D390CFE9F48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Ne tik daudz bsc mums svarīgs, paņemam rādītāju apkopošanas praksi, definēšanas piee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FAF-15E8-4760-9961-381FCF409D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EDF-B5CF-45D3-A66A-B4134F27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9AA-A94F-4C1F-BEFF-8FF6418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CBF-8677-412C-ADB8-EAED9F25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ECC-6387-44DC-B553-AE1BD6EB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80B-8861-4E8C-980D-D948554B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3A2F-2A18-46C4-A350-C23A9E30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02A2-A662-4340-A60A-6FCECEF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C8B2-F347-4D50-83E0-5E2059D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9999-5C31-4854-B364-7D716ED5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436-CB30-4845-B228-2E8B96A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565D-94F2-4021-86AF-3884762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A4F-F1C8-49A0-BF62-4022DA90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5BFF-B54A-49B2-9DA8-F810312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061F-EEA8-4580-AD74-E082B981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0D28-4490-4D6D-8E04-EF7FA25C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70F-CE21-4A55-9C23-D358A57F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C48D-9523-4A87-86C4-B3CF45CE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C5DA-A800-4D67-8488-24B4006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53F4-AB3D-4EAB-AFF9-2FDE981F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38C2-8CAD-4478-9866-B22B1BC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DD6C-7E20-420B-8851-50247F58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AB87-BE7F-4197-8F9B-D1C58ECF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236-CBAC-4D47-B760-A2F30142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9C45-B6DB-4BA5-9081-0FF2DB2B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06FE-7436-4625-A3B0-8A73EC1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7B9A-3025-4CDF-991D-A315D58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C6AA-8844-49A2-8BEF-CEF1827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A6B5-1A37-412A-A9D4-FF3AF0FA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D684-9467-43E6-8C0E-761272CE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4B66-E843-4D6B-A801-5A13A1C8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8066-137A-479F-92EE-4EF172F4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AF98-0D40-4CC8-B6B4-0B49FD5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7A74-EC7E-4F6F-A8F0-9082C58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755-E55F-4D5F-A80C-C8BCEA3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32DF-3AEE-45B0-A8D1-EBF1B689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FEED-A2AE-4FD3-A089-1F3EB53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CE75-2DF3-44A0-8641-8080795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6BA7-00A4-4F1F-A9A7-5BE3AD53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AB39B-9946-44D8-9AA0-61138C18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7E30-ABB9-4C84-A4B6-11E17E8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193B-025A-4B04-B718-9B7C1439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BF1C-564A-4A2C-911C-C8BF3BC4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056B-EADF-4DA1-B397-E76C7816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1F8-0FF4-450F-8200-95233108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637-023B-4687-9C17-F8F249FA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B49-396C-477C-A4A6-7847E66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81E-03F4-47F2-A616-3178187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94F-A146-48B3-952A-2435D628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5CF-5747-4FCA-804B-88F5593324E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21E7-E106-4803-BC7B-F4FA3B17585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CC45-DB5B-4694-8928-A40321D217B5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0FA-8FB7-461E-B004-0103C4CFF47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920" y="4092120"/>
            <a:ext cx="6858000" cy="21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ZULTATĪVO RĀDĪTĀJU SISTĒMAS UN DATU ANALĪZES </a:t>
            </a:r>
            <a:r>
              <a:rPr b="1" lang="lv-LV" sz="2700" spc="-1" strike="noStrike">
                <a:solidFill>
                  <a:srgbClr val="000000"/>
                </a:solidFill>
                <a:latin typeface="Calibri"/>
              </a:rPr>
              <a:t>PRAKSE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IZPĒTE IESLODZĪJUMA VIETU PĀRVALDĒ UN VALSTS PROBĀCIJAS DIENESTĀ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15640" y="6416280"/>
            <a:ext cx="4032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Veronika Linkum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vars Solovjovs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254640" y="6697800"/>
            <a:ext cx="2664000" cy="826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2800"/>
            </a:b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 (turp.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s rādītāju iegūšanas, apkopošanas un analīzes process (katrai iestādei atsevišķi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i priekšlikumi secīgai rādītāju sistēmas ieviešanai abās iestādēs pēc pētījuma beig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1520" y="2406600"/>
            <a:ext cx="38782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57200" y="278280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983960"/>
            <a:ext cx="55688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39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DD4-4635-4BDE-9219-1D50FC78A02D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1538-703D-4D1B-A645-37FA7187472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sistēma - informācijas, procesu un IS kopums, kas nodrošina organizācijas vadībai iespēju sekot līdzi iestādes darbības dažādiem aspektiem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Galvenās komponentes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Rādītāju kopa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- raksturo iestādes darbību un ietekme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rocesi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 - nodrošina informācijas apkopošanu un analīz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ienākumi un atbildība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kas par ko atbild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IT atbalst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informācijas sistēmas kas nodrošina rādītāju apkopošanu un analīzi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B57E-300D-4A18-9B18-98B8FED03A8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870F-0F89-4F33-9178-D73B422F665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106720"/>
            <a:ext cx="490680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s (indikators, metrika) – objekta raksturojums, kas kvantitatīvi raksturo tā īpašības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manto, l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Definētu mērāmus mērķu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vērtētu mērķu sasniegšanu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savstarpējo salīdzināšanu starp dažādiem objektiem (</a:t>
            </a:r>
            <a:r>
              <a:rPr b="0" i="1" lang="lv-LV" sz="2400" spc="-1" strike="noStrike">
                <a:solidFill>
                  <a:srgbClr val="061140"/>
                </a:solidFill>
                <a:latin typeface="Calibri"/>
              </a:rPr>
              <a:t>benchmarking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ietekmes (cēloņsakarības) analīzi starp dažādiem faktor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0DC5-DC04-4009-8C76-F19B2C3D6C5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03C3-5E6D-4EC1-9AA9-8E5FE0006F13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5076720" y="2647800"/>
            <a:ext cx="40467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raksturo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Nosaukums/aprakst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Rādītāja izmantošana mērķis (pamatojums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Mērīšana nav pašmērķis – tai ir kaut kāda jēga/ieguvums, kas samērojams ar mērīšanas izmaksām!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Skalārs vai konsolidēts rādītāj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Ja konsolidēts, tad svarīgi ir konsolidācijas algoritms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vienība (skaits, procenti u.c.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intervāl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metode, datu avoti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ķa vērtības  un vērtību koridori uz laika as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Faktiskās vērtība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5D25-7103-49BE-93B4-3298C60DE44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189E-2143-4987-ACD3-C726E5C953F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5E4C-AEA7-4F89-BAF2-6B59324A7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Balanced Scorecar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147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Calibri"/>
              </a:rPr>
              <a:t>Balanced ScoreCard (BSC)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ir organizācijas stratēģiskās vadības sistēma, kas balstās uz organizācijas hierarhisku darbības rādītāju noteikšanu un mērīšan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Autori - Robert S. Kaplan un David Norton (1992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BSC ir šobrīd viena no populārākajām stratēģijas īstenošanas un darbības efektivitātes vadības metodē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FA5-E7C7-4EE7-8EEC-4025936B871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standarta dimensij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DBAB-FA7A-4B56-82E8-756BDAA67DF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9F4C-521E-460A-B736-1BD839F71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2"/>
          <p:cNvGraphicFramePr/>
          <p:nvPr/>
        </p:nvGraphicFramePr>
        <p:xfrm>
          <a:off x="1042920" y="2041560"/>
          <a:ext cx="68724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41560"/>
                    <a:ext cx="68724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kritika un alternatīv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95280" y="2251080"/>
            <a:ext cx="4824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 visur un vienmēr BSC standarta 4 dimensijas ir būtisk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tiek šķiroti darbības un iznākuma rādītāji (īpaši būtiski publiskajā sektorā)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Bieži tiek veidotas rādītāju kartes ar citu grupējumu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Publiskajā sektorā izmantojams BSC principu «krustojums» ar programmu loģisko model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1DB2-4C58-4190-8BB9-9DB1FFE7A52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63D-1E2F-4463-9455-EAD1362FAB8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33480" y="2374920"/>
            <a:ext cx="39621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968400" y="3591000"/>
            <a:ext cx="5786280" cy="1677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Loģiskais modelis un rādītāj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ate Placeholder 2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92B-AB61-4C02-B37E-6F1A0360AF0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27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54E2-0964-43DF-B6E7-D475A6A2234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254240" y="3830760"/>
            <a:ext cx="157140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Resu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18276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 (proce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11164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s rezultā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040520" y="2220840"/>
            <a:ext cx="1571760" cy="240840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i (iznāku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8"/>
          <p:cNvSpPr/>
          <p:nvPr/>
        </p:nvSpPr>
        <p:spPr>
          <a:xfrm>
            <a:off x="2897280" y="4070520"/>
            <a:ext cx="214200" cy="32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9"/>
          <p:cNvSpPr/>
          <p:nvPr/>
        </p:nvSpPr>
        <p:spPr>
          <a:xfrm>
            <a:off x="4826160" y="4122720"/>
            <a:ext cx="21420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ight Arrow 10"/>
          <p:cNvSpPr/>
          <p:nvPr/>
        </p:nvSpPr>
        <p:spPr>
          <a:xfrm>
            <a:off x="6754680" y="4113360"/>
            <a:ext cx="21456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73280" y="3192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5403240" y="31924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7252920" y="17589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3473280" y="31924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1182960" y="478944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Organizācijas kontrol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71680" y="5748480"/>
            <a:ext cx="21747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sursu (inputs)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ersonāla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iliāļ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2857680" y="5748480"/>
            <a:ext cx="20001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ces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a sagatavošanas ilg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929120" y="5748480"/>
            <a:ext cx="20001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espiedu darbu klient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7000920" y="5578560"/>
            <a:ext cx="16621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zraudzībā esošo klientu atkārtoto noziegumu sk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182520" y="2324160"/>
            <a:ext cx="1571760" cy="79848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biedrības vajadz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Curved Connector 37"/>
          <p:cNvCxnSpPr>
            <a:stCxn id="274" idx="2"/>
            <a:endCxn id="275" idx="2"/>
          </p:cNvCxnSpPr>
          <p:nvPr/>
        </p:nvCxnSpPr>
        <p:spPr>
          <a:xfrm flipH="1" rot="16200000">
            <a:off x="4931280" y="3665160"/>
            <a:ext cx="3960" cy="1931400"/>
          </a:xfrm>
          <a:prstGeom prst="curvedConnector5">
            <a:avLst>
              <a:gd name="adj1" fmla="val 18660000"/>
              <a:gd name="adj2" fmla="val 50000"/>
              <a:gd name="adj3" fmla="val 18660000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291" name="Curved Connector 41"/>
          <p:cNvCxnSpPr/>
          <p:nvPr/>
        </p:nvCxnSpPr>
        <p:spPr>
          <a:xfrm flipH="1" rot="16200000">
            <a:off x="6931440" y="3585960"/>
            <a:ext cx="2520" cy="1929240"/>
          </a:xfrm>
          <a:prstGeom prst="curvedConnector5">
            <a:avLst>
              <a:gd name="adj1" fmla="val 35066666"/>
              <a:gd name="adj2" fmla="val 50000"/>
              <a:gd name="adj3" fmla="val 35066666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sp>
        <p:nvSpPr>
          <p:cNvPr id="292" name="TextBox 42"/>
          <p:cNvSpPr/>
          <p:nvPr/>
        </p:nvSpPr>
        <p:spPr>
          <a:xfrm>
            <a:off x="4061880" y="527544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duktivitāte (effici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6363720" y="527544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Lietderīgums (efectiven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5"/>
          <p:cNvCxnSpPr>
            <a:stCxn id="289" idx="3"/>
          </p:cNvCxnSpPr>
          <p:nvPr/>
        </p:nvCxnSpPr>
        <p:spPr>
          <a:xfrm>
            <a:off x="1754280" y="2722320"/>
            <a:ext cx="5286960" cy="1080"/>
          </a:xfrm>
          <a:prstGeom prst="straightConnector1">
            <a:avLst/>
          </a:prstGeom>
          <a:ln w="28440">
            <a:solidFill>
              <a:srgbClr val="42557f"/>
            </a:solidFill>
            <a:prstDash val="dash"/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3836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Projekta jomas loģiskā modeļa shēm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8B3F-0C2C-445D-92CD-D3E7EE74DA3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89040" y="1695600"/>
            <a:ext cx="2354040" cy="176508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V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89040" y="4648320"/>
            <a:ext cx="2354040" cy="176364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Ie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xagon 12"/>
          <p:cNvSpPr/>
          <p:nvPr/>
        </p:nvSpPr>
        <p:spPr>
          <a:xfrm>
            <a:off x="2511360" y="1876320"/>
            <a:ext cx="1397160" cy="6876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xagon 13"/>
          <p:cNvSpPr/>
          <p:nvPr/>
        </p:nvSpPr>
        <p:spPr>
          <a:xfrm>
            <a:off x="2511360" y="2660760"/>
            <a:ext cx="1397160" cy="68724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xagon 15"/>
          <p:cNvSpPr/>
          <p:nvPr/>
        </p:nvSpPr>
        <p:spPr>
          <a:xfrm>
            <a:off x="2625840" y="4848120"/>
            <a:ext cx="1396800" cy="6876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Hexagon 16"/>
          <p:cNvSpPr/>
          <p:nvPr/>
        </p:nvSpPr>
        <p:spPr>
          <a:xfrm>
            <a:off x="2625840" y="5632560"/>
            <a:ext cx="1396800" cy="6872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4533840" y="240984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4533840" y="345276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4533840" y="4336920"/>
            <a:ext cx="1603440" cy="5968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/>
          <p:cNvSpPr/>
          <p:nvPr/>
        </p:nvSpPr>
        <p:spPr>
          <a:xfrm>
            <a:off x="4533840" y="538164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6588000" y="3362400"/>
            <a:ext cx="1603440" cy="5950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6683400" y="450072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5"/>
          <p:cNvCxnSpPr>
            <a:stCxn id="299" idx="2"/>
          </p:cNvCxnSpPr>
          <p:nvPr/>
        </p:nvCxnSpPr>
        <p:spPr>
          <a:xfrm>
            <a:off x="3908160" y="2220840"/>
            <a:ext cx="626040" cy="357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0" name="Straight Arrow Connector 26"/>
          <p:cNvCxnSpPr/>
          <p:nvPr/>
        </p:nvCxnSpPr>
        <p:spPr>
          <a:xfrm flipV="1">
            <a:off x="3908160" y="2830320"/>
            <a:ext cx="626040" cy="195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1" name="Straight Arrow Connector 28"/>
          <p:cNvCxnSpPr>
            <a:stCxn id="300" idx="2"/>
            <a:endCxn id="304" idx="2"/>
          </p:cNvCxnSpPr>
          <p:nvPr/>
        </p:nvCxnSpPr>
        <p:spPr>
          <a:xfrm>
            <a:off x="3908160" y="3003120"/>
            <a:ext cx="626040" cy="748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2" name="Straight Arrow Connector 31"/>
          <p:cNvCxnSpPr/>
          <p:nvPr/>
        </p:nvCxnSpPr>
        <p:spPr>
          <a:xfrm flipV="1">
            <a:off x="4022640" y="2927160"/>
            <a:ext cx="511920" cy="22356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3" name="Straight Arrow Connector 33"/>
          <p:cNvCxnSpPr/>
          <p:nvPr/>
        </p:nvCxnSpPr>
        <p:spPr>
          <a:xfrm flipV="1">
            <a:off x="4022280" y="3956760"/>
            <a:ext cx="640440" cy="12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4" name="Straight Arrow Connector 38"/>
          <p:cNvCxnSpPr>
            <a:endCxn id="306" idx="2"/>
          </p:cNvCxnSpPr>
          <p:nvPr/>
        </p:nvCxnSpPr>
        <p:spPr>
          <a:xfrm flipV="1">
            <a:off x="3959280" y="5677920"/>
            <a:ext cx="5752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5" name="Straight Arrow Connector 40"/>
          <p:cNvCxnSpPr/>
          <p:nvPr/>
        </p:nvCxnSpPr>
        <p:spPr>
          <a:xfrm flipV="1">
            <a:off x="4022280" y="4737960"/>
            <a:ext cx="5770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6" name="Straight Arrow Connector 42"/>
          <p:cNvCxnSpPr>
            <a:stCxn id="303" idx="6"/>
          </p:cNvCxnSpPr>
          <p:nvPr/>
        </p:nvCxnSpPr>
        <p:spPr>
          <a:xfrm>
            <a:off x="6136920" y="2706840"/>
            <a:ext cx="564120" cy="75456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7" name="Straight Arrow Connector 43"/>
          <p:cNvCxnSpPr>
            <a:endCxn id="307" idx="2"/>
          </p:cNvCxnSpPr>
          <p:nvPr/>
        </p:nvCxnSpPr>
        <p:spPr>
          <a:xfrm flipV="1">
            <a:off x="6119280" y="3658680"/>
            <a:ext cx="469080" cy="1087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8" name="Straight Arrow Connector 45"/>
          <p:cNvCxnSpPr>
            <a:endCxn id="308" idx="2"/>
          </p:cNvCxnSpPr>
          <p:nvPr/>
        </p:nvCxnSpPr>
        <p:spPr>
          <a:xfrm>
            <a:off x="6119640" y="4635000"/>
            <a:ext cx="564480" cy="1645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9" name="Straight Arrow Connector 47"/>
          <p:cNvCxnSpPr/>
          <p:nvPr/>
        </p:nvCxnSpPr>
        <p:spPr>
          <a:xfrm flipV="1">
            <a:off x="6072120" y="4965480"/>
            <a:ext cx="629280" cy="72144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sp>
        <p:nvSpPr>
          <p:cNvPr id="320" name="TextBox 49"/>
          <p:cNvSpPr/>
          <p:nvPr/>
        </p:nvSpPr>
        <p:spPr>
          <a:xfrm>
            <a:off x="687240" y="403848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Iestāžu 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51"/>
          <p:cNvSpPr/>
          <p:nvPr/>
        </p:nvSpPr>
        <p:spPr>
          <a:xfrm flipH="1" flipV="1">
            <a:off x="1114560" y="4559400"/>
            <a:ext cx="28872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2"/>
          <p:cNvSpPr/>
          <p:nvPr/>
        </p:nvSpPr>
        <p:spPr>
          <a:xfrm flipV="1">
            <a:off x="1114560" y="3083040"/>
            <a:ext cx="1998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7"/>
          <p:cNvSpPr/>
          <p:nvPr/>
        </p:nvSpPr>
        <p:spPr>
          <a:xfrm>
            <a:off x="2511360" y="3657600"/>
            <a:ext cx="11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zultā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8"/>
          <p:cNvSpPr/>
          <p:nvPr/>
        </p:nvSpPr>
        <p:spPr>
          <a:xfrm flipV="1">
            <a:off x="2925720" y="3290760"/>
            <a:ext cx="28404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0"/>
          <p:cNvSpPr/>
          <p:nvPr/>
        </p:nvSpPr>
        <p:spPr>
          <a:xfrm flipH="1" flipV="1">
            <a:off x="3102120" y="4395600"/>
            <a:ext cx="23472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2"/>
          <p:cNvSpPr/>
          <p:nvPr/>
        </p:nvSpPr>
        <p:spPr>
          <a:xfrm>
            <a:off x="4317840" y="6402240"/>
            <a:ext cx="22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3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31C-0149-4C95-A469-ADFBD63BDBC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rezentācijas mērķ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24080"/>
            <a:ext cx="46195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Sniegt pārskatu par pētījuma rezultātiem un galvenajām atziņ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ēt par rādītāju noteikšanas un izmantošanas pieej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A679-6C05-40C1-A6EF-8C5ADEE37FC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7983-E0DB-4448-A56A-3A24DA685DD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076720" y="2251080"/>
            <a:ext cx="40449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667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Daļa no nozares kopējās stratēģija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EB20-DAD6-4DB9-B316-A5E4954E0141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177840" y="1922400"/>
            <a:ext cx="8194680" cy="4934160"/>
          </a:xfrm>
          <a:prstGeom prst="rect">
            <a:avLst/>
          </a:prstGeom>
          <a:ln w="0">
            <a:noFill/>
          </a:ln>
        </p:spPr>
      </p:pic>
      <p:sp>
        <p:nvSpPr>
          <p:cNvPr id="331" name="Rounded Rectangle 5"/>
          <p:cNvSpPr/>
          <p:nvPr/>
        </p:nvSpPr>
        <p:spPr>
          <a:xfrm>
            <a:off x="851040" y="1922400"/>
            <a:ext cx="2412720" cy="5349960"/>
          </a:xfrm>
          <a:custGeom>
            <a:avLst/>
            <a:gdLst>
              <a:gd name="textAreaLeft" fmla="*/ 117720 w 2412720"/>
              <a:gd name="textAreaRight" fmla="*/ 2295000 w 2412720"/>
              <a:gd name="textAreaTop" fmla="*/ 117720 h 5349960"/>
              <a:gd name="textAreaBottom" fmla="*/ 5232240 h 5349960"/>
            </a:gdLst>
            <a:ahLst/>
            <a:rect l="textAreaLeft" t="textAreaTop" r="textAreaRight" b="textAreaBottom"/>
            <a:pathLst>
              <a:path w="21600" h="47892">
                <a:moveTo>
                  <a:pt x="3600" y="0"/>
                </a:moveTo>
                <a:arcTo wR="3600" hR="3600" stAng="16200000" swAng="-5400000"/>
                <a:lnTo>
                  <a:pt x="0" y="44292"/>
                </a:lnTo>
                <a:arcTo wR="3600" hR="3600" stAng="10800000" swAng="-5400000"/>
                <a:lnTo>
                  <a:pt x="18000" y="47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BBBD-D877-4A40-A353-C4A089076A3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457200" y="371952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057040"/>
            <a:ext cx="59212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E0FA-25D9-4825-AFCF-D44ADA64E7E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016-860A-4EFD-B94F-73E2A1A83EF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asaiste ar politikas rezultātiem/mērķie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av precizēta un aktualizēta nozares stratēģija (loģiskais modelis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Nozares stratēģiska virziena trūkums apgrūtina iestāžu stratēģisko virzienu plānošanu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o politikas mērķu sasniegšana ir atkarīga no vairāku iestāžu darba rezultātiem, taču šobrīd šī saistība nav skaidri definēt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ēram, politikas virsmērķi “Samazināta noziedzīgu nodarījumu izdarīšana”  var ietekmēt gan VPD, gan IeVP, gan Valsts un Pašvaldību policija.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PD un IeVP darba apjomu lielā mērā ietekmē Kriminālsoda politikas piemērošana un izpilde (piespriestie sodi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Iestādēs nespēj tieši ietekmēt  savu klientu daudzumu un līdz ar to precīzi plānot savu darbu nākotnē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notiek sistemātiska politikas rezultātu rādītāju apkopšana valsts mērogā, salīdzinā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tiek veikta darbības ietekmes izvērtē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AC2E-52AF-4249-8E60-C67C5F545E2D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ienotas rādītāju sistēmas trūkums, kas neļauj vērtēt iestādes darbību kopumā, kā arī katras funkcijas dabu atseviš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ie rādītāji </a:t>
            </a:r>
            <a:r>
              <a:rPr b="0" lang="lv-LV" sz="2200" spc="-1" strike="noStrike" u="sng">
                <a:solidFill>
                  <a:srgbClr val="061140"/>
                </a:solidFill>
                <a:uFillTx/>
                <a:latin typeface="Calibri"/>
              </a:rPr>
              <a:t>lielākoties</a:t>
            </a: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 tiek vākti statistikas vajadzībām, nevis darbības rezultātu vērtēšanai: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ie rādītāji norāda uz padarīto darba apjomu (piem., klientu skaits, kuriem piespriests piespiedu darbs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ajos rādītājos trūkst fokusa uz kvalitātes un efektivitātes vērtēšanu (piem., izlīgumu īpatsvars, kuros tika panākts izlīgums) 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ā rādītāju sistēmā ir grūti izsekot rādītāju saistībai ar iestādes konkrēto mēr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Padziļinātas finanšu analīzes trūkums (piem., probācijas klienta apkalpošanas pašizmaksa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iem rādītājiem nav definētas vēlamās sasniedzamās vērtības (ko vēlamies sasniegt nākotnē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DCD4-AC95-4765-A675-5A6136D1DB1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12B4-E082-4A91-83B7-45354B70FB6E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Iekšējie proces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Vienota un regulāri organizēta procesa trūkums rādītāju apkopošanā un analīzē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ieviesta ikgadējas rādītāju plānošanas un vēlāk rezultātu analīzes “tradīcija”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rādītāju vērtēšana drīzāk notiek pret iepriekšējā periodā paveikto darbu.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apkopošanā nav vienotas vietnes datu uzkrāšanai, tā vietā tiek izmantots liels atskaišu daudzums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katrai funkcijai ir atsevišķas atskaišu form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vienotas sistēmas, kur visi dati tiek uzkrāt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E653-8648-4114-85B4-B053838AE46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5A9-1188-41A3-A9A3-25C5929D74C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Starpiestāžu sadarbīb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2034720"/>
            <a:ext cx="81471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Piekļuves trūkums ārējām IS nedod iespēju apkopot iestādei svarīgus rādītājus (piem., recidīva rādītājus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ācijas apmaiņas trūkums starp iestādēm neļauj pilnvērtīgi analizēt iestādes klienta profil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zsekot klienta sodāmības vēstur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ērtēt iestādes darbības ietekmi uz klientu pēc darbu pabeigšanas ar klientu.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BE89-E71E-4620-AE4F-795F8B1E384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F140-FC39-44F4-9263-4C067BA919E4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57200" y="458316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57040"/>
            <a:ext cx="6103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3E17-3EAB-4C2A-AB32-9E7F9C605357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1594-6D68-41B3-BCFA-974B473CDC9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zares stratēģijas/mērķu precizēšana, iesaistot visas iestādes (Tiesas, Policija, Prokuratūra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estāžu rādītāju saraksta precizēšana atbilstoši definētiem mērķ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vēlamo sasniegšanas vērtību noteikšana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skaita pārskatīšana (vai nav par daudz?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Sasaiste ar nozares mērķiem (nozares stratēģijas kaskadēšana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438-084E-476B-B2B4-DECB96B940E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9DC8-DBA6-43EC-9095-8F9E9FB7137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5083200" y="2394000"/>
            <a:ext cx="4060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2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procesu/atbildības precizēšana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rīka/ sistēmas izvēle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ienots MS Excel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Speciāli izveidota Acces vai Web datu bāze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TM QPR Balanced Scorecard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242568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rmatīvo aktu grozīšana, atvieglojot informācijas apmaiņu starp iestādēm (informācija par klientu sodāmību, u.c.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olitikas rezultātu rādītāju apkopošanas sistēmas izveide nozares mērogā,  salīdzināšana citu valstu rādītāj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ntegrācija ar valsts līmeņa rādītāju sistēmu (it kā paredzēts tādu veidot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5083200" y="1746360"/>
            <a:ext cx="40608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2178000"/>
            <a:ext cx="6985080" cy="62064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273040"/>
            <a:ext cx="7467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F86-023D-4FDE-8B6E-4E838EF9F45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414-0602-404B-8FB3-92920739F35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68000" y="44096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PALDIES!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JŪSU JAUTĀJUMI</a:t>
            </a:r>
            <a:br>
              <a:rPr sz="3600"/>
            </a:br>
            <a:br>
              <a:rPr sz="2000"/>
            </a:b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 Solovjovs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9209928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.solovjovs@isconsulting.lv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 Linkuma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6174127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.linkuma@isconsulting.lv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4240" y="1646280"/>
            <a:ext cx="3911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Īsi par p</a:t>
            </a: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ētījumu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Rezultatīvo rādītāju sistēmas un datu analīzes prakses izpēte Ieslodzījuma vietu pārvaldē un Valsts probācijas dienestā 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Daļa no Norvēģijas valdības  divpusējā finanšu instrumenta projekta Nr. LV0024 „Latvijas probācijas un ieslodzījuma vietu sistēmas personāla kapacitātes celšana”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Izpildītājs – IS Consulting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Laiks – 2010.gada 20.augusts – 15.decembris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8153-236C-4E2F-B673-168A0A4672F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83BD-DE61-42D0-BA53-FDD1A80432A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Darba uzdevum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0000" y="2224080"/>
            <a:ext cx="4906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vērtēt Ieslodzījuma vietu pārvaldes un Valsts probācijas dienesta rezultātu un rezultatīvo rādītāju sistēmas un ar tām saistīto datu uzkrāšanas un analīzes praks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 priekšlikumus rezultatīvo rādītāju sistēmas un datu analīzes pilnveidošan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EAE5-7954-4DE4-9A80-0E9DDD2F842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6554-0670-4248-9B3C-E051EA08E07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2600" y="2732040"/>
            <a:ext cx="3030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919D-38E9-47B5-B40F-5AF290E6D44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7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E9CC-3C92-44CA-B0CE-8A05BED4DB1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7680" y="2714760"/>
            <a:ext cx="8281800" cy="2003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jekta izpildes pieeja (soļi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aveiktai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Novadītas 28 intervijas ar abu iestāžu pārstāvjie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Organizētas 3 fokusgrupas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apspriešanas fokusu grupa (VPD un IeVP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iegūšanas, apkopošanas un analīzes proces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D7F4-1B20-4DF9-B520-75FBD81EF21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C2F-FE49-4366-A2E7-F461671A14B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5076720" y="2394000"/>
            <a:ext cx="381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Izveidota rādītāju karte/ saraksts katrai iestādei atsevišķi (~130 + 150 rādītāji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Darbības rezultāta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aksturo darba kvalitāti/ efektivitāti, tie rādītāji kas tieši atkarīgi no iestādes darbība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“Izlīgumu īpatsvars, kuros tika panākts izlīgums”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Informatīvie rādītāji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ādītāji, kas nav tieši atkarīgi no konkrētas iestādes darbības (šie rādītāji pamatā raksturo izejas datus 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piespriesto piespiedu darbu stundu skaits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Politikas rezultātu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 raksturo ietekmi uz sabiedrību plašākā mērogā (parasti to ietekmē vairāki faktori)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visi ar recidīvu saistītie rādītāji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CA37-863C-4BD6-B098-E3FF1ADA504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A793-B0F8-4C09-8A10-099E7E987323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PD darbības rezultātu kart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3855-BA7D-4142-A080-83952BDEE9B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C07D-D234-460D-A98E-9D5E1B3EDAC1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-36360" y="1674720"/>
            <a:ext cx="9234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user</cp:lastModifiedBy>
  <dcterms:modified xsi:type="dcterms:W3CDTF">2010-12-15T08:49:08Z</dcterms:modified>
  <cp:revision>52</cp:revision>
  <dc:subject/>
  <dc:title>Slide 1</dc:title>
</cp:coreProperties>
</file>